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84E-32FC-4963-A99E-36BC570E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445-C7AF-4666-9B79-3E1C0FD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255-585D-4F73-B991-EB8A8BF9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B79-C4F3-42A1-A2A9-7CD61D1A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CC00-B51E-40F4-A14E-301EF47C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81DA-61CA-4293-A150-473112C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AF5-1F0A-4FA4-BB9B-756E102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D56-1940-4272-82DB-1B490B0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260C-40C6-4A9E-A73C-0C03C4C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EA19-6FF4-48C2-9FCF-1547C05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B5E-8478-4CFB-B3DD-574D4CC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932-4D7B-4A22-8980-17FBA5BD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2D65-5D1F-4E94-B799-1241804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F8E9-8297-45D5-A29F-776E55C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975D-5546-44B0-9CA2-18F22098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7291-3CF7-487F-8347-16BD683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909F-ACE5-4E5D-B7C4-2C665515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3B77-BDC5-4A10-B51A-BA69213D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1877-1849-4015-8EBA-B86F1AA6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9976-434B-41A1-BC3B-0C3D5C0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C1CC-465D-48C1-94F2-5D325D1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7D8C-5386-4383-A98E-1712F9A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804-42DC-44D5-9191-EA21C71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3475-707F-4AC6-B637-1A090541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BF67-29A2-4EB8-B916-DB1965E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1EEA-EC7D-4CA0-8E45-3025414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EF6F-09C7-42F7-877A-E62113D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D3C0-EA91-44CD-8011-9F0EEF0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D7A5-66C8-437C-9A6F-B2F6C678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E661-7079-467F-87E5-3AE5078A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AC01-DB9C-4A45-BB72-6D465A4E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6C17-7D58-4A5D-BCB9-9D760B2D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1152-78C1-4D35-BFE4-0E0E7399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168-27CC-4113-B183-5034D15B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1D45-0B7E-4CD7-A346-3FFD76D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A649-B45D-47EB-9671-AFFA49A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6537-27F2-4361-B368-9543F23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73476-EDAD-4569-8D73-7E37A4C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B1BF-82E0-44AF-A26E-92F6D43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475E-73D7-4792-A892-4B40FAB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87E2-9A9B-43B2-A50E-CEFD9198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EE31-BCC6-4A65-BD34-BF5C4DD7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3F24-F22A-4A2A-9B4F-712BBADF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6DE3-5C90-4585-8716-FEDB8B51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3A8-8B7E-4AC5-B62F-7D467AD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968F-BF96-46B8-B416-063BEDD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C9D8-BD33-45B9-A6BF-530B3E4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F6FF1-EC91-4B3A-AD26-6BB62FC0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3EB7-00C3-423E-80D2-11A4794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5C98-66CA-4108-B040-0485F2E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8CFB-1B8D-4658-A35E-7FC647E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679E-5195-4354-B0C0-B9F330A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0570-A9CA-4D63-B237-243FAD3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E6CB6-B8A7-4DDB-918F-11FE697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0843-050B-46CF-A4B2-FA9800B2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99A-C478-4A76-81C5-A55951D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7007-EB6C-4ABB-9096-A9BFF23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201E6-11E3-49E5-81E3-F7C6B137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2D469-B0E3-4C2C-BA98-F24E468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A101-35C4-4031-8223-DDC0539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FBAC-4261-4BC5-B161-5786C40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3493-39A5-4A75-ADB3-7AE99F7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567A-B224-4839-9743-D4D2CB04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8D9C-86E1-49AE-8B5C-BC030EB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D16E-D412-4FA1-ADAB-929CDED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0C3A-BA3D-47D8-9B7C-FF89C76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5BD-133A-4E5E-A607-EB15362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A251-4C01-46C3-9345-147A439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0C75-F6BB-4365-B87C-A1720895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7B77-F10B-4B03-A18B-41D0B2AB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494AB-A79A-4289-89AA-9C9E599A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16245-6ADB-4AF4-BFDE-1DE3D5AF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7A57-3C3A-4A21-BFDC-295B07D6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8FA2-672D-4F2A-9766-64E4E17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D96F-5B72-48DF-A9BD-376E8F16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4AAAA-A151-412B-A450-CAA6BB1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7645-3BC6-42B3-887A-3A5E853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F68-5E4A-4399-95AF-F570D45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83A73-126A-4E7B-8108-F2BBD75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7E9CF-7CD5-43B4-984F-1418CAE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D00E-F1CF-432E-BC0C-54256FE4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8B78-E061-4CBA-8E6F-6A2322B0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4C2D-BC65-4F6A-9329-98250C3D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A87-C647-4636-A6DD-3BB2EA5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3E2-CBA1-462C-91FA-487F921F78B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287-5070-4B5D-A576-73190F9F852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03E2-2F7C-4506-8072-AB23D51B20F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31CF-7AA7-4DDC-8E9C-7109BDD0600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3D8-953D-46A3-950B-7BFE952CCE9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008-DCC4-404B-AEDB-2970CAB81F4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2DAC-12BE-4F83-89EA-D7C2D278BF8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4" descr=""/>
          <p:cNvPicPr/>
          <p:nvPr/>
        </p:nvPicPr>
        <p:blipFill>
          <a:blip r:embed="rId1"/>
          <a:stretch/>
        </p:blipFill>
        <p:spPr>
          <a:xfrm>
            <a:off x="390600" y="298440"/>
            <a:ext cx="8356680" cy="287172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5" descr=""/>
          <p:cNvPicPr/>
          <p:nvPr/>
        </p:nvPicPr>
        <p:blipFill>
          <a:blip r:embed="rId2"/>
          <a:stretch/>
        </p:blipFill>
        <p:spPr>
          <a:xfrm>
            <a:off x="639720" y="4608360"/>
            <a:ext cx="8028000" cy="132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3"/>
          <a:srcRect l="1170" t="20832" r="47878" b="70837"/>
          <a:stretch/>
        </p:blipFill>
        <p:spPr>
          <a:xfrm>
            <a:off x="1371600" y="3581280"/>
            <a:ext cx="6629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7"/>
          <p:cNvSpPr/>
          <p:nvPr/>
        </p:nvSpPr>
        <p:spPr>
          <a:xfrm>
            <a:off x="0" y="1981080"/>
            <a:ext cx="9144000" cy="12956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verage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143000" y="1905120"/>
                <a:ext cx="67518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χ</m:t>
                        </m:r>
                      </m:e>
                    </m:bar>
                    <m:r>
                      <m:t xml:space="preserve">±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Box 5"/>
          <p:cNvSpPr/>
          <p:nvPr/>
        </p:nvSpPr>
        <p:spPr>
          <a:xfrm>
            <a:off x="990720" y="38098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are 95% confident that the true average time of orders made at Village Bagel are between 9:33 AM and 10:35 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reoccurring samples of the same size (n=61), the true average time of orders will catch the interval 95% of th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610848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0456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1371600" y="1295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Content Placeholder 2"/>
          <p:cNvSpPr/>
          <p:nvPr/>
        </p:nvSpPr>
        <p:spPr>
          <a:xfrm>
            <a:off x="5105520" y="2666880"/>
            <a:ext cx="3733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Yes, bagel type and toasted/not toasted are catego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NOT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  <a:ea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Although this check doesn’t meet the requirement, we will still continue with the t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819520" y="5105520"/>
            <a:ext cx="380880" cy="350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876920" y="5715000"/>
            <a:ext cx="380880" cy="351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0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648320" y="1752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ounded Rectangle 11"/>
          <p:cNvSpPr/>
          <p:nvPr/>
        </p:nvSpPr>
        <p:spPr>
          <a:xfrm>
            <a:off x="0" y="3352680"/>
            <a:ext cx="8839080" cy="10670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ounded Rectangle 9"/>
          <p:cNvSpPr/>
          <p:nvPr/>
        </p:nvSpPr>
        <p:spPr>
          <a:xfrm>
            <a:off x="0" y="1828800"/>
            <a:ext cx="8839080" cy="1295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371600" y="12952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15228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505320" y="1905120"/>
                <a:ext cx="1357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4876920" y="1905120"/>
                <a:ext cx="33652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762120" y="3505320"/>
                <a:ext cx="5616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TextBox 15"/>
          <p:cNvSpPr/>
          <p:nvPr/>
        </p:nvSpPr>
        <p:spPr>
          <a:xfrm>
            <a:off x="304920" y="48769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fail to reject the Ho because the p-value of .19 is greater than the alpha of 0.0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toasted/not toasted and bagel type customers may prefer to have a certain bagel flavor toas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371600" y="1295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0" y="182880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5257800" y="2286000"/>
            <a:ext cx="3886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toasted item the everything ba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toasted item was cinnamon raisin, whole grain, and w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not toasted item was b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not toasted item cranberry orange, egg, and gar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464832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30492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5105520" y="2666880"/>
            <a:ext cx="3733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Yes, modifications and gender are catego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0292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876920" y="5638680"/>
            <a:ext cx="38088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ounded Rectangle 5"/>
          <p:cNvSpPr/>
          <p:nvPr/>
        </p:nvSpPr>
        <p:spPr>
          <a:xfrm>
            <a:off x="0" y="18288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352680" y="1905120"/>
                <a:ext cx="1940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207040" y="1905120"/>
                <a:ext cx="3936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ounded Rectangle 9"/>
          <p:cNvSpPr/>
          <p:nvPr/>
        </p:nvSpPr>
        <p:spPr>
          <a:xfrm>
            <a:off x="0" y="3276720"/>
            <a:ext cx="8839080" cy="10666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914400" y="3429000"/>
                <a:ext cx="53341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36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Box 11"/>
          <p:cNvSpPr/>
          <p:nvPr/>
        </p:nvSpPr>
        <p:spPr>
          <a:xfrm>
            <a:off x="0" y="4648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fail to reject Ho because the p-value of 0.53 is greater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gender and mod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, gender may not determine if customers modify their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-360" y="190512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was to not have any modifications for both males and fema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were more females that made modifica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495680" cy="3962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Sandwiches"/>
          <p:cNvPicPr/>
          <p:nvPr/>
        </p:nvPicPr>
        <p:blipFill>
          <a:blip r:embed="rId3"/>
          <a:stretch/>
        </p:blipFill>
        <p:spPr>
          <a:xfrm>
            <a:off x="1143000" y="3886200"/>
            <a:ext cx="23814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22860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4648320" y="1752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an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304920" y="26668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Categor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5029200" y="2590920"/>
            <a:ext cx="3733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Yes, here/to go and lunch/breakfast  are catego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ll expected cell counts are ≥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380880" y="510552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0292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581280" y="5334120"/>
            <a:ext cx="381240" cy="350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4952880" y="5715000"/>
            <a:ext cx="3812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ounded Rectangle 5"/>
          <p:cNvSpPr/>
          <p:nvPr/>
        </p:nvSpPr>
        <p:spPr>
          <a:xfrm>
            <a:off x="0" y="18288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0" y="1905120"/>
                <a:ext cx="3382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3368520" y="1936800"/>
                <a:ext cx="19069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5413320" y="1936800"/>
                <a:ext cx="3524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ounded Rectangle 7"/>
          <p:cNvSpPr/>
          <p:nvPr/>
        </p:nvSpPr>
        <p:spPr>
          <a:xfrm>
            <a:off x="0" y="3276720"/>
            <a:ext cx="8839080" cy="10666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934920" y="3429000"/>
                <a:ext cx="5294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19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TextBox 11"/>
          <p:cNvSpPr/>
          <p:nvPr/>
        </p:nvSpPr>
        <p:spPr>
          <a:xfrm>
            <a:off x="304920" y="487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fail to reject Ho because the p-value of 0.4 is greater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re is no association between here/to go and lunch/break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409720" y="1882800"/>
            <a:ext cx="358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r breakfast the majority of the customers took their order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r lunch the majority of the customers also took their order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common order was choosing to eat breakfast to 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common order was choosing to eat lunch at the restau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8828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cated in Warrington, P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pen for lunch and breakfa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ll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gels, Sandwiches, Breads, Salads/Soups, and Bevera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wners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sa O’Boyle and Kathy Braddis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rcRect l="2927" t="39587" r="77162" b="17707"/>
          <a:stretch/>
        </p:blipFill>
        <p:spPr>
          <a:xfrm>
            <a:off x="5715000" y="1600200"/>
            <a:ext cx="32004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ontent Placeholder 2"/>
          <p:cNvSpPr/>
          <p:nvPr/>
        </p:nvSpPr>
        <p:spPr>
          <a:xfrm>
            <a:off x="304920" y="2209680"/>
            <a:ext cx="388620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2 independent S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2 normal population or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po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1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n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po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10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4952880" y="21337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 independent and ran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and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≥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=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794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More than 300 females and 310 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380880" y="548640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tudent’s T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 sample T-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762120" y="17524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= 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2362320" y="1752480"/>
            <a:ext cx="175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a: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≠ µ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2743200" y="541008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276720" y="5715000"/>
            <a:ext cx="380880" cy="35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2438280" y="6172200"/>
            <a:ext cx="3812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ounded Rectangle 8"/>
          <p:cNvSpPr/>
          <p:nvPr/>
        </p:nvSpPr>
        <p:spPr>
          <a:xfrm>
            <a:off x="0" y="3581280"/>
            <a:ext cx="9144000" cy="10670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ounded Rectangle 4"/>
          <p:cNvSpPr/>
          <p:nvPr/>
        </p:nvSpPr>
        <p:spPr>
          <a:xfrm>
            <a:off x="0" y="1828800"/>
            <a:ext cx="9144000" cy="16002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42568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4572000" y="2133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5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33520" y="3657600"/>
                <a:ext cx="68706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Box 11"/>
          <p:cNvSpPr/>
          <p:nvPr/>
        </p:nvSpPr>
        <p:spPr>
          <a:xfrm>
            <a:off x="304920" y="487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reject Ho because the p-value of 0.013 is less than the alpha of 0.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 of females and males orders are not eq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80880" y="175248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em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are 5 outli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is a median at11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imum= 8:3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ximum= 11:3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are no outli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is a median at 9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imum= 7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ximum= 15:0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572000" cy="4181760"/>
          </a:xfrm>
          <a:prstGeom prst="rect">
            <a:avLst/>
          </a:prstGeom>
          <a:ln w="0">
            <a:noFill/>
          </a:ln>
        </p:spPr>
      </p:pic>
      <p:sp>
        <p:nvSpPr>
          <p:cNvPr id="431" name="TextBox 4"/>
          <p:cNvSpPr/>
          <p:nvPr/>
        </p:nvSpPr>
        <p:spPr>
          <a:xfrm>
            <a:off x="1371600" y="1295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ime VS. G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955360" cy="1407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882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toasted/not toasted and bagel typ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toasted/not toasted and bagel typ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modifications and gen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gender and modifi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Gender may not determine if customers modify their or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i-Square Test for independence for here/to go and lunch/breakfas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re is no association between here/to go and lunch/breakfas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 Sample T-Test for time VS. gen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average time of females and males orders are not equ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ckets may get mixed up and be unsure of which gender ordered wh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may not care what type of bagel they get their sandwich 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y lose or have tickets thrown out by acc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may not be a large enough sample size to come to accurate solu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only one Village Bagel Company restaura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tricted to only people in the are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 could have been more accurate with a larger sample siz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ta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llecting data was easy because Chelsea works at Village Bag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mployees were willing to help us collect ticke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ok a lot of time to put everything toget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un and enjoyable proj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nted to find out if food orders at Village Bagel had any association with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end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ype of bag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ere/to g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eakfast/lunch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ime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asted/not toast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http://www.villagebagelco.com/images/direct36.jpg"/>
          <p:cNvPicPr/>
          <p:nvPr/>
        </p:nvPicPr>
        <p:blipFill>
          <a:blip r:embed="rId2"/>
          <a:stretch/>
        </p:blipFill>
        <p:spPr>
          <a:xfrm>
            <a:off x="4952880" y="300672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llected food order tickets from Village Bagel over the course of three day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ed the tickets by gender into two different bag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llected data from every fifth ticket that we pulled out of each bag until we had 30 tickets for females and 31 tickets for ma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est of significance and interval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-Sample T-Interval on average time of ord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toasted/not toasted and bagel typ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modifications and gend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-Square Test for independence for here/to go and lunch/breakf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 Sample T-Test for time VS. gend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-360" y="4952520"/>
            <a:ext cx="4724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graph shows that our data was unimodal at 11:30 with a symmetric shape and slight right skew. It has a gap at 13:00 and a spread of (6:30,14:30). Lastly, the center of this graph lies around 9:30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80060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 the course of three days the busiest time of day was at 11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ere no customers at 13: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ere the least amount of customers at 10:00 and 12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ustomers was the most consistent from 13:30 to 14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istogram for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ie Chart for Types of 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Chart 4" descr=""/>
          <p:cNvPicPr/>
          <p:nvPr/>
        </p:nvPicPr>
        <p:blipFill>
          <a:blip r:embed="rId2"/>
          <a:stretch/>
        </p:blipFill>
        <p:spPr>
          <a:xfrm>
            <a:off x="298440" y="1670040"/>
            <a:ext cx="831528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5715000" y="251460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popular bagel was everything with 10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least popular bagels were egg and cinnamon raisin with one order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re were 16 bagel flavors ordered out of the 22 types that are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ar Chart for Types of 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2"/>
          <a:stretch/>
        </p:blipFill>
        <p:spPr>
          <a:xfrm>
            <a:off x="0" y="2286000"/>
            <a:ext cx="563868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www.villagebagelco.com/images/bagels35.jpg"/>
          <p:cNvPicPr/>
          <p:nvPr/>
        </p:nvPicPr>
        <p:blipFill>
          <a:blip r:embed="rId3"/>
          <a:stretch/>
        </p:blipFill>
        <p:spPr>
          <a:xfrm>
            <a:off x="708660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rom our data the majority of customers would come into Village Bagel at 11:3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ctr"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could vary on weekends VS. weekda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customers would prefer their order to be on an everything bagel from the popularity shown in the pie and bar char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1882800"/>
            <a:ext cx="38862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di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al population or n ≥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pulation ≥ 10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1371600" y="1295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verage Time of 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0" y="198108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e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Assu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n=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Arial"/>
              </a:rPr>
              <a:t>There are more than 610 time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3" descr="C:\Documents and Settings\Calderaio.K000\Local Settings\Temporary Internet Files\Content.IE5\A3O920U2\MC900434665[1].wmf"/>
          <p:cNvPicPr/>
          <p:nvPr/>
        </p:nvPicPr>
        <p:blipFill>
          <a:blip r:embed="rId2"/>
          <a:stretch/>
        </p:blipFill>
        <p:spPr>
          <a:xfrm>
            <a:off x="3352680" y="5029200"/>
            <a:ext cx="381240" cy="351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C:\Documents and Settings\Calderaio.K000\Local Settings\Temporary Internet Files\Content.IE5\A3O920U2\MC900434665[1].wmf"/>
          <p:cNvPicPr/>
          <p:nvPr/>
        </p:nvPicPr>
        <p:blipFill>
          <a:blip r:embed="rId3"/>
          <a:stretch/>
        </p:blipFill>
        <p:spPr>
          <a:xfrm>
            <a:off x="3886200" y="5334120"/>
            <a:ext cx="380880" cy="350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C:\Documents and Settings\Calderaio.K000\Local Settings\Temporary Internet Files\Content.IE5\A3O920U2\MC900434665[1].wmf"/>
          <p:cNvPicPr/>
          <p:nvPr/>
        </p:nvPicPr>
        <p:blipFill>
          <a:blip r:embed="rId4"/>
          <a:stretch/>
        </p:blipFill>
        <p:spPr>
          <a:xfrm>
            <a:off x="3581280" y="5791320"/>
            <a:ext cx="381240" cy="350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990720" y="510552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l condition 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tudent’s T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-Sample T-Inter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7:19:46Z</dcterms:created>
  <dc:creator>coppola.a437</dc:creator>
  <dc:description/>
  <dc:language>en-US</dc:language>
  <cp:lastModifiedBy>Lauren Senske</cp:lastModifiedBy>
  <dcterms:modified xsi:type="dcterms:W3CDTF">2011-01-10T17:49:41Z</dcterms:modified>
  <cp:revision>45</cp:revision>
  <dc:subject/>
  <dc:title>Slide 1</dc:title>
</cp:coreProperties>
</file>